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E7F-73CE-4B86-B98E-6C818E07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3826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8A9-CDC2-46F9-8A50-EB38B7FE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800" y="16765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3826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800" y="3826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7FA-ABF6-4553-B0AA-3BBAC49A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5400" y="16765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0440" y="16765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3826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5400" y="3826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0440" y="3826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B8B-805F-4921-A75E-A769999F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7BC-4B1B-47E6-B1F3-96419F78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4B5-00B3-46D7-BF75-A2868A2F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800" y="167652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A55-34A7-4D09-A2F1-56980BC1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D50-250F-4CF9-8E0B-6DFAEE80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FDD-4D2C-4F80-B31E-F1D8CD4C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800" y="167652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3826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C8D-9C9E-4469-9E8F-CE0C03E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800" y="16765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800" y="3826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C40-4900-46B5-86EF-00D06286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800" y="16765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3826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232-8947-48F4-9B02-44A08DEC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June 22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Flash for C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lide </a:t>
            </a:r>
            <a:fld id="{4FF97426-F5A2-4C37-8A92-1532A787FD0B}" type="slidenum"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lash for CFe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amuel Neff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B-Line Expres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A12-F82D-494E-AEBE-978184384E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reating Movie Clip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Add text fields, graphics, sub clips, and component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et propertie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 BT"/>
              </a:rPr>
              <a:t>Name, begins with space</a:t>
            </a:r>
            <a:endParaRPr b="0" lang="en-US" sz="2400" spc="-1" strike="noStrike">
              <a:solidFill>
                <a:srgbClr val="000000"/>
              </a:solidFill>
              <a:latin typeface="Futura Bk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 BT"/>
              </a:rPr>
              <a:t>Identifier, no spaces</a:t>
            </a:r>
            <a:endParaRPr b="0" lang="en-US" sz="24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800600" y="1676520"/>
          <a:ext cx="3657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3657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891-38DD-4D65-8AEC-2A2C72E7DB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ctionScript Class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Use external ".as" file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One file per clas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Function declaration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Inherit from MovieClip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Register class for the symbol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00600" y="1676520"/>
          <a:ext cx="3657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3657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99A-DD1A-4F01-927C-40440BD5C3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reate Server Component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everal option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Flash Remoting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LoadVar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00600" y="1676520"/>
          <a:ext cx="3657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3657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B47-A8FD-4358-8558-17DD9C44CB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lash Remot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Call CFC methods as easily as local method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end and retrieve complex data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Binary format reduces bandwidth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800600" y="1682640"/>
          <a:ext cx="365760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82640"/>
                    <a:ext cx="365760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E3E-A640-4708-B81B-7205010C39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ying it all Together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FLA one line of ActionScript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 BT"/>
              </a:rPr>
              <a:t>#include</a:t>
            </a:r>
            <a:endParaRPr b="0" lang="en-US" sz="24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Root AS file includes all classe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Root AS file then starts the application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800600" y="1676520"/>
          <a:ext cx="3657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3657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99D-AA0C-4967-BDD1-8BEDEF3F72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xample:  Address Book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Multiple form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Flash Remoting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Model-View-Controller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800600" y="1781280"/>
          <a:ext cx="3657600" cy="39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781280"/>
                    <a:ext cx="3657600" cy="39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A32-6C2D-429B-A9B8-B36683F406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Bk BT"/>
              </a:rPr>
              <a:t>Blog:</a:t>
            </a:r>
            <a:r>
              <a:rPr b="1" lang="en-US" sz="2800" spc="-1" strike="noStrike">
                <a:solidFill>
                  <a:srgbClr val="000000"/>
                </a:solidFill>
                <a:latin typeface="Futura Bk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a Bk BT"/>
              </a:rPr>
              <a:t>http://www.rewindlife.com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Bk BT"/>
              </a:rPr>
              <a:t>E-Mail:</a:t>
            </a:r>
            <a:r>
              <a:rPr b="1" lang="en-US" sz="2800" spc="-1" strike="noStrike">
                <a:solidFill>
                  <a:srgbClr val="000000"/>
                </a:solidFill>
                <a:latin typeface="Futura Bk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a Bk BT"/>
              </a:rPr>
              <a:t>sam@rewindlife.com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FC5-0B3B-4408-92AE-1794B23E42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lash for CFe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Flash anatomy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Creating application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Communication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791320" y="2133720"/>
          <a:ext cx="110484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133720"/>
                    <a:ext cx="110484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010280" y="2514600"/>
            <a:ext cx="609840" cy="1447920"/>
          </a:xfrm>
          <a:custGeom>
            <a:avLst/>
            <a:gdLst>
              <a:gd name="textAreaLeft" fmla="*/ 81720 w 609840"/>
              <a:gd name="textAreaRight" fmla="*/ 528120 w 60984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5028840" y="2438280"/>
            <a:ext cx="609480" cy="1447920"/>
          </a:xfrm>
          <a:custGeom>
            <a:avLst/>
            <a:gdLst>
              <a:gd name="textAreaLeft" fmla="*/ 81360 w 609480"/>
              <a:gd name="textAreaRight" fmla="*/ 528120 w 60948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91320" y="3200400"/>
          <a:ext cx="110484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200400"/>
                    <a:ext cx="1104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953-5C3E-4D0C-9956-1304FD9801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imelin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Lay out content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Define motion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Create animation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800600" y="1676520"/>
          <a:ext cx="3657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3657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800600" y="3809880"/>
          <a:ext cx="36576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36576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990720" y="4114800"/>
            <a:ext cx="3657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Ignore the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00B-6EFE-4369-AD4D-2A26810286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Library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Organize asset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Folders contain symbol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Different types of symbol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 BT"/>
              </a:rPr>
              <a:t>Movie clips</a:t>
            </a:r>
            <a:endParaRPr b="0" lang="en-US" sz="2400" spc="-1" strike="noStrike">
              <a:solidFill>
                <a:srgbClr val="000000"/>
              </a:solidFill>
              <a:latin typeface="Futura Bk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 BT"/>
              </a:rPr>
              <a:t>Buttons</a:t>
            </a:r>
            <a:endParaRPr b="0" lang="en-US" sz="2400" spc="-1" strike="noStrike">
              <a:solidFill>
                <a:srgbClr val="000000"/>
              </a:solidFill>
              <a:latin typeface="Futura Bk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 BT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Futura Bk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 BT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800600" y="1676520"/>
          <a:ext cx="3657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3657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155-814D-48CB-8E37-04C457CE0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ovie clip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Visual containers for content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Use as forms or window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Can be nested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Have their own timeline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800600" y="1682640"/>
          <a:ext cx="365760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82640"/>
                    <a:ext cx="365760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020-1D02-4693-B6CD-840BBAF7DC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utton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Define custom rollover state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Take longer to create and integrate than button component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800600" y="1682640"/>
          <a:ext cx="365760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82640"/>
                    <a:ext cx="365760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228-125C-4B47-AFC8-FD3F0A3CA8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Graphic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Contain shapes or other graphic symbol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Can not be scripted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hare timeline with their owner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00600" y="1682640"/>
          <a:ext cx="365760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82640"/>
                    <a:ext cx="365760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D36-07E5-4AEE-839A-099D1E3488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omponent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Parameterized movie clip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Drag and drop functionality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Easy to integrate into application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Varying quality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800600" y="1676520"/>
          <a:ext cx="3657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3657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D96-3B9A-4758-B398-8A50ABAFA2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reating Application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Arrange visual assets into movie clip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Create ActionScript classe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Create server components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Publish</a:t>
            </a: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 BT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00600" y="1676520"/>
          <a:ext cx="3657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76520"/>
                    <a:ext cx="3657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D7C-5682-4CA8-A195-37C87B1770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20:03:33Z</dcterms:created>
  <dc:creator>Samuel R. Neff</dc:creator>
  <dc:description/>
  <dc:language>en-US</dc:language>
  <cp:lastModifiedBy>Samuel R. Neff</cp:lastModifiedBy>
  <dcterms:modified xsi:type="dcterms:W3CDTF">2003-06-22T12:23:19Z</dcterms:modified>
  <cp:revision>25</cp:revision>
  <dc:subject/>
  <dc:title>Slide 1</dc:title>
</cp:coreProperties>
</file>