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A38-9391-4F63-A83D-E34448C1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1B5-AAA9-4D4E-9ADC-1B92A2D7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0DD-C789-4D4B-B0AF-54A1CFFC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549-2872-4863-B06E-6AEE2612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E77-BC6D-4270-82D0-E890595D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11A-D11B-4DBD-BA58-71CB0E4B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2EC-BD8A-4C93-B93F-2F9CF462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6DF-0AC9-4657-949F-80439610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90B-A0DB-4C0E-82AE-646E765A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61E-0368-4C59-BDF6-D76CB971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48E-8944-47FA-96AE-ECEC0627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FD6-F259-4581-B117-C1C802C6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C46A-0D0C-45D0-8FA2-8680B9D8B3B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8B64-2560-4712-B57F-0E87D399E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2209680"/>
            <a:ext cx="73152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lexMedium"/>
              </a:rPr>
              <a:t>XML, XPath, and XS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5.15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olexMedium"/>
              </a:rPr>
              <a:t>Samuel Ne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52600"/>
            <a:ext cx="39625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Iterating XML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370160"/>
            <a:ext cx="7315200" cy="36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Use standard structure functions to iterate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set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atts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arguments.element.xmlAttributes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loop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item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"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i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"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collection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"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#atts#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set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attValue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atts[i]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loop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Use the XML object property "xmlChildren" as an array of child elements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set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children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element.xmlChildren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loop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index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"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i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"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from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"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"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to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"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#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arrayLen(children)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#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set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child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children[i]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loop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79132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 IterateXML.cfm, 4_IterateXML.cfm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370160"/>
            <a:ext cx="731520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Language for selecting nodes from an XML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Supports combining disparat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Supports filtering nodes by complex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Think of it as single-table SQ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52600"/>
            <a:ext cx="4419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What is XPa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7913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 5_DisplayComplex.cf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370160"/>
            <a:ext cx="731520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Use XMLSearch() function to perform an XPath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set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nodes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XMLSearch(xmlObject,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/purchaseOrders/purchaseOrder/customerInfo/firstName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"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)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First argument is an XML object—already par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Second argument is an XPath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XPath expression is forward slash delimited list of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XMLSearch Returns an array of XML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52600"/>
            <a:ext cx="4419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Simple node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913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 6_SimpleXPath.cf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52600"/>
            <a:ext cx="3962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Filtered node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370160"/>
            <a:ext cx="731520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Use square brackets to indicate a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Use relative paths to identify comparison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/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purchaseOrders</a:t>
            </a: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/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purchaseOrder</a:t>
            </a: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/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customer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[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..</a:t>
            </a: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/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products</a:t>
            </a: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/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product</a:t>
            </a: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/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discount 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&gt;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9132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 7_FilteredXPath.cfm, 8_FilteredXPath.cf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352680"/>
            <a:ext cx="731520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Use @ sign to indicate an 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Still include '/' before the @ 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/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purchaseOrders</a:t>
            </a: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/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purchaseOrder</a:t>
            </a: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/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customer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[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..</a:t>
            </a: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/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products</a:t>
            </a: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/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product</a:t>
            </a: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@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productId 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1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52600"/>
            <a:ext cx="4343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ColdFusion MX XPath 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370160"/>
            <a:ext cx="731520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Can only be used to select XML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In other systems you can select attribute nodes as we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/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purchaseOrders</a:t>
            </a: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/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purchaseOrder</a:t>
            </a:r>
            <a:r>
              <a:rPr b="0" lang="en-US" sz="1600" spc="-1" strike="noStrike">
                <a:solidFill>
                  <a:srgbClr val="808080"/>
                </a:solidFill>
                <a:latin typeface="Andale Mono"/>
              </a:rPr>
              <a:t>/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customerInfo/@custome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Above valid XPath won't work in ColdFusion M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370160"/>
            <a:ext cx="73152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Language for transforming one XML document into another XML document or into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An XSLT transformation is also a valid XML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52600"/>
            <a:ext cx="4419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What is XS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370160"/>
            <a:ext cx="7315200" cy="22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Refactor an XML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Move, sort and renam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Filter ou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Commonly used for inter-application data exchange when each application already has an existing XML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52600"/>
            <a:ext cx="4419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XML to XML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7913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 09_XSLT_XML.xsl, 10_XSLT_XML.cf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552600"/>
            <a:ext cx="3962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XML to HTML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370160"/>
            <a:ext cx="731520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Reporting from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Simpler than DOM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79132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 11_XSLT_HTML.xsl, 12_XSLT_HTML.cf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52600"/>
            <a:ext cx="4343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ColdFusion MX XSLT 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370160"/>
            <a:ext cx="731520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No parameters to XSLT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No caching of compiled XSLT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Extra XML serialization and deserialization sometimes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1522440"/>
            <a:ext cx="8380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C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52600"/>
            <a:ext cx="4419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What's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1752480"/>
            <a:ext cx="8380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D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1981080"/>
            <a:ext cx="8380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209680"/>
            <a:ext cx="8380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D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2438280"/>
            <a:ext cx="8380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JAX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2666880"/>
            <a:ext cx="10666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Math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895480"/>
            <a:ext cx="8380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M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3124080"/>
            <a:ext cx="8380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P3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3352680"/>
            <a:ext cx="8380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3581280"/>
            <a:ext cx="8380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R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1522440"/>
            <a:ext cx="8384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SM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752480"/>
            <a:ext cx="8384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SO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1981080"/>
            <a:ext cx="8384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SV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2209680"/>
            <a:ext cx="8384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T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438280"/>
            <a:ext cx="8384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UD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666880"/>
            <a:ext cx="8384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V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2895480"/>
            <a:ext cx="8384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WD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3124080"/>
            <a:ext cx="8384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W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3352680"/>
            <a:ext cx="8384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WS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581280"/>
            <a:ext cx="8384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X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1522440"/>
            <a:ext cx="8380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X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1752480"/>
            <a:ext cx="114300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981080"/>
            <a:ext cx="10666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X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209680"/>
            <a:ext cx="8380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XK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438280"/>
            <a:ext cx="8380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X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666880"/>
            <a:ext cx="12952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X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895480"/>
            <a:ext cx="8380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XQ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3124080"/>
            <a:ext cx="8380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XS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352680"/>
            <a:ext cx="12193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XSL-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200400"/>
            <a:ext cx="83808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7727b"/>
                </a:solidFill>
                <a:latin typeface="Helvetica Neue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552600"/>
            <a:ext cx="39625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0160" y="1370160"/>
            <a:ext cx="617220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X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XS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What's next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Clr>
                <a:srgbClr val="67727b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52600"/>
            <a:ext cx="4419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1752480"/>
            <a:ext cx="3657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Blog:</a:t>
            </a: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	</a:t>
            </a: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http://www.rewindlife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E-Mail:</a:t>
            </a: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	</a:t>
            </a: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sam@rewindlife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370160"/>
            <a:ext cx="73152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Format for combining data and 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 </a:t>
            </a: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Data is the information being ex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 </a:t>
            </a: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A person's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 </a:t>
            </a: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An account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 </a:t>
            </a: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Metadata is the descriptor of that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 </a:t>
            </a: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"Nam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 </a:t>
            </a: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"AccountNumbe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Combining data and metadata into one file simplifies development and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52600"/>
            <a:ext cx="4419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What is XM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370160"/>
            <a:ext cx="731520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Exchange of data between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Movement of data within tiers of an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Storage of highly complex single-purpos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552600"/>
            <a:ext cx="4419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Where to use XM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1370160"/>
            <a:ext cx="73152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Movement of data within components of a single-tier in an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Storage of reusable or relational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552600"/>
            <a:ext cx="4419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Where NOT to use XM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133720" y="2362320"/>
          <a:ext cx="6449760" cy="367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362320"/>
                    <a:ext cx="644976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552600"/>
            <a:ext cx="3962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Anatomy of an XML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1447920"/>
            <a:ext cx="4495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80"/>
                </a:solidFill>
                <a:latin typeface="Andale Mono"/>
              </a:rPr>
              <a:t>&lt;?xml version='1.0'?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2200" spc="-1" strike="noStrike">
                <a:solidFill>
                  <a:srgbClr val="800000"/>
                </a:solidFill>
                <a:latin typeface="Andale Mono"/>
              </a:rPr>
              <a:t>people</a:t>
            </a: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2200" spc="-1" strike="noStrike">
                <a:solidFill>
                  <a:srgbClr val="800000"/>
                </a:solidFill>
                <a:latin typeface="Andale Mono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ndale Mono"/>
              </a:rPr>
              <a:t>    </a:t>
            </a:r>
            <a:r>
              <a:rPr b="0" lang="en-US" sz="2200" spc="-1" strike="noStrike">
                <a:solidFill>
                  <a:srgbClr val="ff0000"/>
                </a:solidFill>
                <a:latin typeface="Andale Mono"/>
              </a:rPr>
              <a:t>firstName</a:t>
            </a: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="</a:t>
            </a:r>
            <a:r>
              <a:rPr b="0" lang="en-US" sz="2200" spc="-1" strike="noStrike">
                <a:solidFill>
                  <a:srgbClr val="000000"/>
                </a:solidFill>
                <a:latin typeface="Andale Mono"/>
              </a:rPr>
              <a:t>Doug</a:t>
            </a: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ndale Mono"/>
              </a:rPr>
              <a:t>    </a:t>
            </a:r>
            <a:r>
              <a:rPr b="0" lang="en-US" sz="2200" spc="-1" strike="noStrike">
                <a:solidFill>
                  <a:srgbClr val="ff0000"/>
                </a:solidFill>
                <a:latin typeface="Andale Mono"/>
              </a:rPr>
              <a:t>lastName</a:t>
            </a: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="</a:t>
            </a:r>
            <a:r>
              <a:rPr b="0" lang="en-US" sz="2200" spc="-1" strike="noStrike">
                <a:solidFill>
                  <a:srgbClr val="000000"/>
                </a:solidFill>
                <a:latin typeface="Andale Mono"/>
              </a:rPr>
              <a:t>Jones</a:t>
            </a: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2200" spc="-1" strike="noStrike">
                <a:solidFill>
                  <a:srgbClr val="800000"/>
                </a:solidFill>
                <a:latin typeface="Andale Mono"/>
              </a:rPr>
              <a:t>bio</a:t>
            </a: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ndale Mono"/>
              </a:rPr>
              <a:t>Doug is a brok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&lt;/</a:t>
            </a:r>
            <a:r>
              <a:rPr b="0" lang="en-US" sz="2200" spc="-1" strike="noStrike">
                <a:solidFill>
                  <a:srgbClr val="800000"/>
                </a:solidFill>
                <a:latin typeface="Andale Mono"/>
              </a:rPr>
              <a:t>bio</a:t>
            </a: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&lt;!--</a:t>
            </a:r>
            <a:r>
              <a:rPr b="0" lang="en-US" sz="2200" spc="-1" strike="noStrike">
                <a:solidFill>
                  <a:srgbClr val="808080"/>
                </a:solidFill>
                <a:latin typeface="Andale Mono"/>
              </a:rPr>
              <a:t> Do we have mo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ndale Mono"/>
              </a:rPr>
              <a:t>         </a:t>
            </a:r>
            <a:r>
              <a:rPr b="0" lang="en-US" sz="2200" spc="-1" strike="noStrike">
                <a:solidFill>
                  <a:srgbClr val="808080"/>
                </a:solidFill>
                <a:latin typeface="Andale Mono"/>
              </a:rPr>
              <a:t>info on Doug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ndale Mono"/>
              </a:rPr>
              <a:t>         </a:t>
            </a: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--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ndale Mono"/>
              </a:rPr>
              <a:t>  </a:t>
            </a: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&lt;/</a:t>
            </a:r>
            <a:r>
              <a:rPr b="0" lang="en-US" sz="2200" spc="-1" strike="noStrike">
                <a:solidFill>
                  <a:srgbClr val="800000"/>
                </a:solidFill>
                <a:latin typeface="Andale Mono"/>
              </a:rPr>
              <a:t>person</a:t>
            </a: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&lt;/</a:t>
            </a:r>
            <a:r>
              <a:rPr b="0" lang="en-US" sz="2200" spc="-1" strike="noStrike">
                <a:solidFill>
                  <a:srgbClr val="800000"/>
                </a:solidFill>
                <a:latin typeface="Andale Mono"/>
              </a:rPr>
              <a:t>people</a:t>
            </a:r>
            <a:r>
              <a:rPr b="0" lang="en-US" sz="22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479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ocessing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057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5909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3429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4267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4800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(Comments have only two dashes in X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552600"/>
            <a:ext cx="39625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Parsing an XM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1887480"/>
            <a:ext cx="6858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set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fileName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      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expandPath(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Simple.xml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"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)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file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action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 "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read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"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file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"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#fileName#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"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variable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"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xmlText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set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xmlObject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xmlParse(xmlText)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dump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var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 "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#xmlObject#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"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label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 "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xmlObject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7913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 1_ReadXML.cf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552600"/>
            <a:ext cx="3962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Accessing XML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370160"/>
            <a:ext cx="7315200" cy="31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Use simple dot notation to access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set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firstNameElement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          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xmlObject.purchaseOrder.customerInfo.firstName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Use the XML object property "xmlText" to read the text of an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set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firstNameText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firstNameElement.xmlText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output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#firstNameText#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output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7913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 2_XMLElements.cf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72200" y="64008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XML, XPath, and XSLT – 05.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552600"/>
            <a:ext cx="3962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4177"/>
                </a:solidFill>
                <a:latin typeface="SolexMedium"/>
              </a:rPr>
              <a:t>Accessing XML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370160"/>
            <a:ext cx="7315200" cy="36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Use the XML element property "xmlAttributes" to read the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2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727b"/>
                </a:solidFill>
                <a:latin typeface="Helvetica Neue"/>
              </a:rPr>
              <a:t>xmlAttributes is a structure of key/value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set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customerInfoElement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          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xmlObject.purchaseOrder.customerInfo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set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customerId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           </a:t>
            </a:r>
            <a:r>
              <a:rPr b="0" lang="en-US" sz="1600" spc="-1" strike="noStrike">
                <a:solidFill>
                  <a:srgbClr val="ff0000"/>
                </a:solidFill>
                <a:latin typeface="Andale Mono"/>
              </a:rPr>
              <a:t>customerInfoElement.xmlAttributes.customerId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output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&lt;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h1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The customer id is #customerId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e Mon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h1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&lt;/</a:t>
            </a:r>
            <a:r>
              <a:rPr b="0" lang="en-US" sz="1600" spc="-1" strike="noStrike">
                <a:solidFill>
                  <a:srgbClr val="800000"/>
                </a:solidFill>
                <a:latin typeface="Andale Mono"/>
              </a:rPr>
              <a:t>cfoutput</a:t>
            </a:r>
            <a:r>
              <a:rPr b="0" lang="en-US" sz="1600" spc="-1" strike="noStrike">
                <a:solidFill>
                  <a:srgbClr val="0000ff"/>
                </a:solidFill>
                <a:latin typeface="Andale Mono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7913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 3_XMLAtts.cf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6:42:49Z</dcterms:created>
  <dc:creator>D Ramsey</dc:creator>
  <dc:description/>
  <dc:language>en-US</dc:language>
  <cp:lastModifiedBy>Samuel R. Neff</cp:lastModifiedBy>
  <dcterms:modified xsi:type="dcterms:W3CDTF">2003-06-21T22:11:15Z</dcterms:modified>
  <cp:revision>134</cp:revision>
  <dc:subject/>
  <dc:title>PowerPoint Presentation</dc:title>
</cp:coreProperties>
</file>